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C0F-E871-4019-A63B-E76C78BF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0A5-4D1E-4AAC-A7CA-F6E8A378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66CC-3259-4A26-A2EE-665D6514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782-8237-4A03-94DA-8609D423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7CA-FAE2-49CC-8EC9-DF522B58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808-E774-4E6F-8B20-ED463551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A598-4B55-4700-B6AB-838839A5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5C4-C955-49C1-8390-7915B85E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3B3-B0FB-4A08-9362-3FA9F0B7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FDF-B8A9-4F73-A231-58312894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F98-40A7-4E5C-9F84-6FE94889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D60-7289-4D3D-A794-7658686C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E3C8-99BF-4EAD-98B2-D7A9CD7F5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3362911HLMymE_ph" descr=""/>
          <p:cNvPicPr/>
          <p:nvPr/>
        </p:nvPicPr>
        <p:blipFill>
          <a:blip r:embed="rId1"/>
          <a:stretch/>
        </p:blipFill>
        <p:spPr>
          <a:xfrm>
            <a:off x="3046320" y="-82440"/>
            <a:ext cx="6935760" cy="770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971800" cy="10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ccecff"/>
                </a:solidFill>
                <a:latin typeface="Simplified Arabic"/>
              </a:rPr>
              <a:t>يا حاملاً صَليبَ الفـداء،  صليبَ الفـداء،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ccecff"/>
                </a:solidFill>
                <a:latin typeface="Simplified Arabic"/>
              </a:rPr>
              <a:t>مُـرَّ مـن صّوبِنـا نحنُ الذينَ نحيا الوفاء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ccecff"/>
                </a:solidFill>
                <a:latin typeface="Simplified Arabic"/>
              </a:rPr>
              <a:t>حُـبــُّـــكَ فــي  قَلبِنــــــا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7055312TKFvGq_ph" descr=""/>
          <p:cNvPicPr/>
          <p:nvPr/>
        </p:nvPicPr>
        <p:blipFill>
          <a:blip r:embed="rId1"/>
          <a:stretch/>
        </p:blipFill>
        <p:spPr>
          <a:xfrm>
            <a:off x="31240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2819520" cy="10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أمامَكَ نَنحني، أنزِلْ صليبَك، ضَعْهُ على أَكتافِنا</a:t>
            </a:r>
            <a:r>
              <a:rPr b="1" lang="en-US" sz="46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وارتَحْ عندَنا قليلاً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طريقُ</a:t>
            </a:r>
            <a:r>
              <a:rPr b="1" lang="en-US" sz="46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خلاصِ طويـلٌ على مَدِّ آمالِكَ</a:t>
            </a:r>
            <a:r>
              <a:rPr b="0" lang="ar-SA" sz="46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6:11:46Z</dcterms:created>
  <dc:creator>SUZANNE.MD</dc:creator>
  <dc:description/>
  <dc:language>en-US</dc:language>
  <cp:lastModifiedBy>SUZANNE.MD</cp:lastModifiedBy>
  <dcterms:modified xsi:type="dcterms:W3CDTF">2003-03-10T06:18:13Z</dcterms:modified>
  <cp:revision>1</cp:revision>
  <dc:subject/>
  <dc:title>PowerPoint Presentation</dc:title>
</cp:coreProperties>
</file>